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A44-880C-4150-ABE1-A1F43063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538-A678-48B6-90C6-216A0E21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5CA-4446-4F22-BDB6-5EB24D65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877-D337-4394-9E66-678D595F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13F-149F-4A31-AB1A-85B357EF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D65-56A2-451F-9793-97214D67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9BF-CB03-4C53-B5A1-8CFB4C6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A8D-E1E4-46E9-AC11-81B6CE4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F3C-0F61-4098-8E98-8A0D7C1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87C-B130-485F-8839-4182249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45D-9E83-439E-9808-77D576A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58A-A188-4E6F-B138-CA4F1EB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4F95-1186-4B9C-8265-7D6019767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 Bess had a baby name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s had a baby name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23:42Z</dcterms:created>
  <dc:creator>TPS</dc:creator>
  <dc:description/>
  <dc:language>en-US</dc:language>
  <cp:lastModifiedBy>TPS</cp:lastModifiedBy>
  <dcterms:modified xsi:type="dcterms:W3CDTF">2007-11-30T20:29:11Z</dcterms:modified>
  <cp:revision>3</cp:revision>
  <dc:subject/>
  <dc:title>Slide 1</dc:title>
</cp:coreProperties>
</file>