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6AFA-3EBE-4556-B1E0-6CD9FFA0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C6B1-6B1E-4341-B46A-289AF323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008C-FBA7-41F0-9636-4C99B427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BA3C-1638-4965-ABF6-5610420B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E1EC-69DF-4F0B-A617-7D51D19B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2695-EF51-4233-8148-5BB865A8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1B68-C45F-44D6-A11A-B68999DD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679B-3903-431A-A972-A1B8615F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8498-B8B4-45BB-98E1-7B9902B6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A7E6-62D4-4331-9418-EA252FAF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F4EA-1041-4C0B-987A-3781338C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5DDE-CCFE-4A34-8D33-AF831920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62FA-D228-4D07-A817-9E0ED01AC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 was happy that he had friends to play with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 Bess had a baby named T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 was sad that he was at the farm and had no fri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people came to see Bess and T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 was happy that he had friends to play with hi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s had a baby named T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 was sad that he was at the farm and had no fri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people came to see Bess and T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20:23:42Z</dcterms:created>
  <dc:creator>TPS</dc:creator>
  <dc:description/>
  <dc:language>en-US</dc:language>
  <cp:lastModifiedBy>TPS</cp:lastModifiedBy>
  <dcterms:modified xsi:type="dcterms:W3CDTF">2007-11-30T20:29:11Z</dcterms:modified>
  <cp:revision>3</cp:revision>
  <dc:subject/>
  <dc:title>Slide 1</dc:title>
</cp:coreProperties>
</file>