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3B5-D343-4527-9133-9F8E2714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B7C-DE53-4694-88A8-E736F4C5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30C-886F-46FA-93D7-D6B5AAF2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5BC-8A52-4DBA-BE41-CABC5865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119-E04E-4D1D-864A-F7C8242A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937-5202-453B-910A-AC2FD8B9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593-B3A3-4E77-9AE3-C64B0D7E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5CD-A297-4947-AF65-C7BD1335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65B-50C5-42FF-A83D-C032213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F65-404C-470C-AC90-497C780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C09-6FD5-4BC8-B2FD-9C987DF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023-61E2-42C3-81F9-5CA2156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1D8D-A683-4D35-9460-20C3A4F3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 Bess had a baby name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s had a baby name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23:42Z</dcterms:created>
  <dc:creator>TPS</dc:creator>
  <dc:description/>
  <dc:language>en-US</dc:language>
  <cp:lastModifiedBy>TPS</cp:lastModifiedBy>
  <dcterms:modified xsi:type="dcterms:W3CDTF">2007-11-30T20:29:11Z</dcterms:modified>
  <cp:revision>3</cp:revision>
  <dc:subject/>
  <dc:title>Slide 1</dc:title>
</cp:coreProperties>
</file>