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76D-0529-4D8E-9D13-E8FB481D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E51-3C08-4D2D-A379-9D89564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95D-69D6-4896-BB11-7608D1BB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9AD-08A5-40A1-AF44-63909A1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387-23FC-4EC5-8FA0-7111968C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1E0-0F32-4DA5-AC8B-9AED4513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949-BEEB-4CCC-9359-9FE3974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CC8-194D-469F-9DAF-2E912D1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6E7-E007-4F39-A714-23E21F9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3A1-05B9-4F53-9AE4-6403065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D9D-C99F-4385-8AB0-A189444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6C4-44ED-4DB5-8763-FA1F270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9934-DF22-4F56-9F93-7E12B36E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 Bess had a baby name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 had a baby name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23:42Z</dcterms:created>
  <dc:creator>TPS</dc:creator>
  <dc:description/>
  <dc:language>en-US</dc:language>
  <cp:lastModifiedBy>TPS</cp:lastModifiedBy>
  <dcterms:modified xsi:type="dcterms:W3CDTF">2007-11-30T20:29:11Z</dcterms:modified>
  <cp:revision>3</cp:revision>
  <dc:subject/>
  <dc:title>Slide 1</dc:title>
</cp:coreProperties>
</file>