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5715-D8D8-4D1B-9E34-340A801C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A630-7812-4922-B337-9F69A787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5B01-12A5-4C8E-9F24-D79C9F22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A30C-EE68-45E9-8B15-65A5096B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F8B8-0587-4C9B-968D-18054B15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0D4B-BCB1-498F-AE72-011993D2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D6FD-D080-443A-A24A-72FC8043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D94D-5187-4449-B0B9-9E0B0A9D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1E55-362D-4C3F-A7BE-394A06FF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A1F4-772F-4712-A983-50D3EA08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E2A8-254E-4B03-A7DD-9A25401B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D7F8-13CC-4A05-9500-6DA5057C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D774-140E-4660-AC22-E8B38962A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268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6576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486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7315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bi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52680" y="1981080"/>
            <a:ext cx="32544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co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3809880"/>
            <a:ext cx="30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n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05320" y="5638680"/>
            <a:ext cx="304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ri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7543800"/>
            <a:ext cx="312408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de-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5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8:46:45Z</dcterms:created>
  <dc:creator>TPS</dc:creator>
  <dc:description/>
  <dc:language>en-US</dc:language>
  <cp:lastModifiedBy>TPS</cp:lastModifiedBy>
  <dcterms:modified xsi:type="dcterms:W3CDTF">2008-01-16T01:43:47Z</dcterms:modified>
  <cp:revision>5</cp:revision>
  <dc:subject/>
  <dc:title>Slide 1</dc:title>
</cp:coreProperties>
</file>