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96C6-8B60-4048-B0FE-41C663DC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AB8A-41B2-4931-BEC6-BB49C958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31FB-FAD7-4BD5-B7A9-2B1948F6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9879-01E8-4FBF-B465-2C5D8AFC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FCB-1259-43CC-B101-270BB19F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9037-E06E-4CB9-9ABF-851AC255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1B67-4093-4F36-A429-7596E85D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B529-DBA3-4BCE-ABA6-DF93E7C8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9E01-FF73-4E52-9A43-CC259BC0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F81-9F4C-49B0-BEC5-76005E3B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F72D-C80D-4C68-AD0C-B48DCD88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6853-7367-45D0-9E02-F72CA89D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286D-A562-4D7E-9754-F64032627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268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6576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486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7315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i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52680" y="1981080"/>
            <a:ext cx="32544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o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3809880"/>
            <a:ext cx="30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n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5638680"/>
            <a:ext cx="304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ri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7543800"/>
            <a:ext cx="312408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de-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5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8:46:45Z</dcterms:created>
  <dc:creator>TPS</dc:creator>
  <dc:description/>
  <dc:language>en-US</dc:language>
  <cp:lastModifiedBy>TPS</cp:lastModifiedBy>
  <dcterms:modified xsi:type="dcterms:W3CDTF">2008-01-16T01:43:47Z</dcterms:modified>
  <cp:revision>5</cp:revision>
  <dc:subject/>
  <dc:title>Slide 1</dc:title>
</cp:coreProperties>
</file>