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84D4-8753-4C52-8EBC-323C146C2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6C03-EB56-4A71-B6EA-AF467215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CE62-9321-498E-A060-F5E9DFDAC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7DE2-5DE0-49F6-A563-019189F03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9B25-B37C-4564-84AE-24B6EE26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7C89-4A93-4D79-B03D-55A0DFC8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50FE-8BD6-4E93-9B12-FBC5BA5E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A3E6-17BB-42AF-A997-451838CA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A3B1-DA32-4073-99AF-D12A1838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EC0A-C693-412A-8EF3-CD80B642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BD09-C351-49E1-95BE-008798ED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69FD-606A-439A-B82B-FDCAE28E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CD2B-274A-466A-AB01-545B94AB6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5268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6576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4864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73152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81280" y="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bi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52680" y="1981080"/>
            <a:ext cx="32544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co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3809880"/>
            <a:ext cx="304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en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05320" y="5638680"/>
            <a:ext cx="3047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tri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7543800"/>
            <a:ext cx="3124080" cy="14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de-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            5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8:46:45Z</dcterms:created>
  <dc:creator>TPS</dc:creator>
  <dc:description/>
  <dc:language>en-US</dc:language>
  <cp:lastModifiedBy>TPS</cp:lastModifiedBy>
  <dcterms:modified xsi:type="dcterms:W3CDTF">2008-01-16T01:43:47Z</dcterms:modified>
  <cp:revision>5</cp:revision>
  <dc:subject/>
  <dc:title>Slide 1</dc:title>
</cp:coreProperties>
</file>