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DB8-6426-41B2-A323-612B464A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C25-2417-4D66-ADA1-CACF36C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CA3-19A9-4643-802A-29913CF1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75A-842A-4F80-A3AD-B9118FDF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71F-8012-4019-BADE-71EEBAA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A78-DB90-4313-839B-C3B0032A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404-9E54-4455-8A7C-D017A55B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77E-2FFF-4FD8-846D-0971A2B3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E9E-F38C-4CA8-BBF8-7CE2FB25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BDC-4312-4F4A-83CE-44B990F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54D-BA93-40E7-B144-B16AF9F1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5C9-5872-4179-89B1-91D1B82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3FE9-ECA5-43E6-A711-6C9649D49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1981080"/>
            <a:ext cx="3254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80988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n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563868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7543800"/>
            <a:ext cx="3124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e-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5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8:46:45Z</dcterms:created>
  <dc:creator>TPS</dc:creator>
  <dc:description/>
  <dc:language>en-US</dc:language>
  <cp:lastModifiedBy>TPS</cp:lastModifiedBy>
  <dcterms:modified xsi:type="dcterms:W3CDTF">2008-01-16T01:43:47Z</dcterms:modified>
  <cp:revision>5</cp:revision>
  <dc:subject/>
  <dc:title>Slide 1</dc:title>
</cp:coreProperties>
</file>