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D1B-0D97-4E50-AE9F-291785CC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46F-78FD-4D76-AF24-871D62C2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ECA-A53A-4224-B508-7905A4DB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E57-714E-4415-9CD2-9BB58154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3A8-F617-4EF7-BE14-972679A7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53F-78FC-4CF6-BE1E-A3F07F87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0A9-DD0A-48ED-A86B-2D5C4772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EAF-207C-4805-A85C-65556193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B72-A68D-460B-AFA8-651259D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2E9-B9B6-4A32-9CBE-6B439367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6A2-C845-4F3A-BA4D-505C0079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459-CB3B-40BE-98E6-3A9473F7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09D7-9459-4B88-B2CA-C7C548D23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58680"/>
            <a:ext cx="6815160" cy="902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276720"/>
            <a:ext cx="381024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Bess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13:20Z</dcterms:created>
  <dc:creator>TPS</dc:creator>
  <dc:description/>
  <dc:language>en-US</dc:language>
  <cp:lastModifiedBy>TPS</cp:lastModifiedBy>
  <dcterms:modified xsi:type="dcterms:W3CDTF">2007-11-29T17:23:40Z</dcterms:modified>
  <cp:revision>2</cp:revision>
  <dc:subject/>
  <dc:title>Slide 1</dc:title>
</cp:coreProperties>
</file>