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BA7-C707-4F84-B2E9-6BB9EF67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E35-68CF-4EC5-928A-6383CF4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71E-A09F-4287-8ADB-10E91ADB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726-E46E-454C-B1EB-B5D00D2F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4D6-DBA5-4C94-ACA8-744C93B3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1E6-02A1-4842-A2FC-266C5C4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1F1-5F7F-41B8-8821-388ECAD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5F0-55B1-46E3-B9F7-CD0A540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8B8-1150-44A9-8ECD-E960159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80-3CC1-4B25-8F60-96D4242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ACD-71E8-4373-9FA3-2AC22DD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681-D9C7-4BDA-9FF0-05D79C1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1A4-8FAB-4EF3-8AFB-93A4B90E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58680"/>
            <a:ext cx="6815160" cy="902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276720"/>
            <a:ext cx="381024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ess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13:20Z</dcterms:created>
  <dc:creator>TPS</dc:creator>
  <dc:description/>
  <dc:language>en-US</dc:language>
  <cp:lastModifiedBy>TPS</cp:lastModifiedBy>
  <dcterms:modified xsi:type="dcterms:W3CDTF">2007-11-29T17:23:40Z</dcterms:modified>
  <cp:revision>2</cp:revision>
  <dc:subject/>
  <dc:title>Slide 1</dc:title>
</cp:coreProperties>
</file>