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ACF-B237-4061-81C8-F7AACA5F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EA0-C2DA-41DE-ADDB-5C545CA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E3A-D2AC-4CE8-A30A-562C3B11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C7F-7E91-4B5A-B609-805274F6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0E1-7CDD-47C4-B722-F0FEE692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590-F6A1-435E-BFD7-156447E4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C26-682F-4310-9EF0-AABFB487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5D9-1170-4406-B914-86681D16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A06-61C4-4C5E-BC25-B8D0CC3C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D13-05E7-4234-88E3-F453A90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E71-36E4-4253-9234-4EB7EFEC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C94-79B6-4222-905C-E72874B5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B2BC-FB80-454B-BAE5-8137637B1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20" y="58680"/>
            <a:ext cx="6815160" cy="902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276720"/>
            <a:ext cx="381024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Bess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Te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13:20Z</dcterms:created>
  <dc:creator>TPS</dc:creator>
  <dc:description/>
  <dc:language>en-US</dc:language>
  <cp:lastModifiedBy>TPS</cp:lastModifiedBy>
  <dcterms:modified xsi:type="dcterms:W3CDTF">2007-11-29T17:23:40Z</dcterms:modified>
  <cp:revision>2</cp:revision>
  <dc:subject/>
  <dc:title>Slide 1</dc:title>
</cp:coreProperties>
</file>