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DAAA-7902-4116-9CC2-DE0C19020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788A-59E1-4512-A1D0-AD1ADA4D9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36E1-A14F-46B1-89F1-2984AF7F4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9F98-59CB-4AF7-AADB-1D04D61A1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750A-7DF5-44AC-916E-AD3A352B1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89E4-B562-49BF-A406-1C6976255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5F20-9712-4D47-A777-53CCD3EC0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180F-36B3-4A53-8B9A-8482A5A8A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B331-F31A-4A5B-A514-FAE5862BD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6755-3805-4A21-A4C1-1E8FF860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0E26-F48B-45D6-861F-2C79EB73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6A3D-FFF0-4433-AE38-6E6A7710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DB15D-ABEF-427D-898C-A0695EF93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0520" y="58680"/>
            <a:ext cx="6815160" cy="9026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23880" y="3276720"/>
            <a:ext cx="3810240" cy="53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Bess </a:t>
            </a: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Tes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17:13:20Z</dcterms:created>
  <dc:creator>TPS</dc:creator>
  <dc:description/>
  <dc:language>en-US</dc:language>
  <cp:lastModifiedBy>TPS</cp:lastModifiedBy>
  <dcterms:modified xsi:type="dcterms:W3CDTF">2007-11-29T17:23:40Z</dcterms:modified>
  <cp:revision>2</cp:revision>
  <dc:subject/>
  <dc:title>Slide 1</dc:title>
</cp:coreProperties>
</file>