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53E-8E4D-4B5F-B3BF-13A8CA2F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05D-B5D0-4A6C-A3B1-16041C23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A9E-4221-4E12-A98E-E0162C0F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A2C-FBF3-42E2-8F18-1C111E37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0A2-CF7F-498C-B6AA-230AC60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2B8-8BB4-4795-A1DA-7640BDE6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288-B81C-4EA5-82CD-D846CF4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63B-2455-4F82-A44A-0BDCD6F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8D7-E3DF-48E6-A124-C9B5BFDB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DF8-3247-4F6F-A3F2-82CA3D86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2CD-AD1B-434B-BC8C-6175F3EF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6C8-5BFF-42D5-9B44-B33641A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0E49-161A-42FA-A8CA-B6DF13168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r  ur  m  b  f  t  p   t  b  k  m  n  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5:38Z</dcterms:created>
  <dc:creator>TPS</dc:creator>
  <dc:description/>
  <dc:language>en-US</dc:language>
  <cp:lastModifiedBy>TPS</cp:lastModifiedBy>
  <dcterms:modified xsi:type="dcterms:W3CDTF">2007-11-29T17:32:26Z</dcterms:modified>
  <cp:revision>3</cp:revision>
  <dc:subject/>
  <dc:title>Slide 1</dc:title>
</cp:coreProperties>
</file>