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41A-700B-44C7-9C95-7C428597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2AFE-F059-41D1-BF4D-E99FDAE7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1148-4076-4E09-852F-1CD1351C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04B5-DFAE-4461-B465-3A037FD8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7F73-9893-460E-A915-C1FDE30A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3A5-514E-44E3-8E8B-019ADDAF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F49-2D9E-4682-9D91-6D6E1548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D94-26C2-4332-80F1-156778A1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3135-3759-46A2-8487-E1530937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FCE7-70C5-4A64-99D8-9B4EAED5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81E3-563A-4D15-A373-83649536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1316-A3B7-4FAE-85C4-FBDEC487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9A7D-08A3-48BF-9479-150C0630C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r  ur  m  b  f  t  p   t  b  k  m  n  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7:25:38Z</dcterms:created>
  <dc:creator>TPS</dc:creator>
  <dc:description/>
  <dc:language>en-US</dc:language>
  <cp:lastModifiedBy>TPS</cp:lastModifiedBy>
  <dcterms:modified xsi:type="dcterms:W3CDTF">2007-11-29T17:32:26Z</dcterms:modified>
  <cp:revision>3</cp:revision>
  <dc:subject/>
  <dc:title>Slide 1</dc:title>
</cp:coreProperties>
</file>