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7CF5-F12B-4347-9224-7DE13A73E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9218-B29C-476F-8926-B24003AE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3D8B-DA6B-4A1D-84E7-7BB64E918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64F6-17C6-43DB-A7C9-242865915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A476-5250-43C3-98B4-E82FCAD0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125F-310E-468A-9DD0-C6CAA220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378A-AA2B-40C4-92B3-6E91772F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E7BC-BDC9-4025-8736-3404D672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DCEE-D6EB-42FA-97D7-DE123209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8E7A-344A-45CD-9F10-C1255DBC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A39B-E397-40B1-ADA5-FC89C5CA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DA20-2128-4F2D-B204-798AAD65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0003-23F7-4414-845A-4FB7813AD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r  ur  m  b  f  t  p   t  b  k  m  n  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7:25:38Z</dcterms:created>
  <dc:creator>TPS</dc:creator>
  <dc:description/>
  <dc:language>en-US</dc:language>
  <cp:lastModifiedBy>TPS</cp:lastModifiedBy>
  <dcterms:modified xsi:type="dcterms:W3CDTF">2007-11-29T17:32:26Z</dcterms:modified>
  <cp:revision>3</cp:revision>
  <dc:subject/>
  <dc:title>Slide 1</dc:title>
</cp:coreProperties>
</file>