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9A2-3E08-4BAA-BF94-1426E0B5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B58-99A1-46D9-9F82-C80B2D9C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EB1-51C4-4DC9-9354-45F4E520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2FE-9AD9-42E6-BA6C-18E993BF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2F4-3A8E-465D-8BBB-C6587EB4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301-6FD3-42A2-B696-1F32308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3E8-C96A-4464-ACCA-7B13D156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C03-AE6F-4C27-A81A-1F48C766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5AC-E68F-4FC2-A27E-0653B8F4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573-E603-40BD-83CB-2EADE225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930-8285-4765-80A8-39F82CE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E20-BEA7-4836-8231-CD69718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9D07-FA0C-4B79-A817-34D60E445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r  ur  m  b  f  t  p   t  b  k  m  n  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5:38Z</dcterms:created>
  <dc:creator>TPS</dc:creator>
  <dc:description/>
  <dc:language>en-US</dc:language>
  <cp:lastModifiedBy>TPS</cp:lastModifiedBy>
  <dcterms:modified xsi:type="dcterms:W3CDTF">2007-11-29T17:32:26Z</dcterms:modified>
  <cp:revision>3</cp:revision>
  <dc:subject/>
  <dc:title>Slide 1</dc:title>
</cp:coreProperties>
</file>