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7801-4155-4D59-9FC9-47FF9C3CF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504B-66FE-4BC3-866E-0CBF4DF05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23B1-0A86-40F1-A537-6B6758891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D059-2430-4339-A2DC-0B810FDCB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2B34-946C-4D1C-A2DD-F3CD67192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C679-7A49-49C3-8C55-6004A99E6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3BD6-2AB3-42CB-A8DE-D78D85BF0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63A3-8D30-4362-946D-EA753B5F8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792E-BFE3-4048-B143-16196522D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AB98-CA76-4439-A11C-03D1B428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9CCD-5A36-46BD-B29C-39EE550A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FDF5-CCB1-4B48-B631-C0438C46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97807-9EB5-4031-A7D5-6C33344EC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648320" y="990720"/>
            <a:ext cx="167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ss        and       T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20:13:55Z</dcterms:created>
  <dc:creator>TPS</dc:creator>
  <dc:description/>
  <dc:language>en-US</dc:language>
  <cp:lastModifiedBy>TPS</cp:lastModifiedBy>
  <dcterms:modified xsi:type="dcterms:W3CDTF">2007-11-30T20:29:15Z</dcterms:modified>
  <cp:revision>2</cp:revision>
  <dc:subject/>
  <dc:title>Slide 1</dc:title>
</cp:coreProperties>
</file>