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679-6947-4F19-A1AE-291F8FEA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F97-2D2B-4248-A1A7-6FF2468C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08B-4DAC-4875-9FE4-AE7B837B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74D-E6B0-4F76-8A2F-A6F46365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0C2-2FB3-4AE9-A256-49BBB860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BA9-0568-4CD0-A4E3-0D62F676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5D1-A665-45A7-A8A4-E83EE4BF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A47-C70D-4B3A-BD91-167893F8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40F-DEE3-4EE7-9D31-3D9CC592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2FD-0378-43AD-8447-1452E4D3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19F0-3E6C-4BDB-9834-CCA83960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821-4BE6-4FB1-8E15-546EB4DE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717C-84B7-4598-BCF5-4A9597EDC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8320" y="99072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s        and       T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20:13:55Z</dcterms:created>
  <dc:creator>TPS</dc:creator>
  <dc:description/>
  <dc:language>en-US</dc:language>
  <cp:lastModifiedBy>TPS</cp:lastModifiedBy>
  <dcterms:modified xsi:type="dcterms:W3CDTF">2007-11-30T20:29:15Z</dcterms:modified>
  <cp:revision>2</cp:revision>
  <dc:subject/>
  <dc:title>Slide 1</dc:title>
</cp:coreProperties>
</file>