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975-B3DB-49CA-8E7C-6BDD46AA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591-B204-49B7-8C35-029849ED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2F8-E070-47D4-8795-C02E37C5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FDD-3B06-44B2-88F4-69FAE0E9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DA6-09DE-4774-97E6-C3A9BBD0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71F-893B-4099-BE5B-2951093E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430-9B8C-4468-89FF-634F07A9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F46-0686-4F43-9A7E-D00FEBB3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326-4234-4115-B0CF-1120F895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674-0E79-4738-A87D-7891B77A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EAA-863D-46F1-8A25-7ED5FBE6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4B9-AD59-46E5-A8BE-DFD421C6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7208-7A59-4786-93A8-C1AB109F3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8320" y="99072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s        and       T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0:13:55Z</dcterms:created>
  <dc:creator>TPS</dc:creator>
  <dc:description/>
  <dc:language>en-US</dc:language>
  <cp:lastModifiedBy>TPS</cp:lastModifiedBy>
  <dcterms:modified xsi:type="dcterms:W3CDTF">2007-11-30T20:29:15Z</dcterms:modified>
  <cp:revision>2</cp:revision>
  <dc:subject/>
  <dc:title>Slide 1</dc:title>
</cp:coreProperties>
</file>