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A324-15AC-4281-BFC1-06ECF151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4D2-AD90-44A9-8A8A-10700BDC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D6DF-07A2-48C8-B34C-8F9E0943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3615-E681-4310-BACF-A4FD2827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50F4-67EC-4286-8BA0-060C3097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B918-3067-4378-A9DE-F307F19C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46B-20F3-4DE9-9F6F-99F03523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9B3F-B929-4557-A409-65D3E1F5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ACF5-61E4-4C3E-8766-EF522E48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53B4-02C4-40F7-9D74-B572D349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8193-6263-47A4-A3C6-ABE3E6AF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65D-A2C7-4F06-BE9F-CFC73117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B1D3-B760-45DD-A052-EBE636629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48320" y="99072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s        and       T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20:13:55Z</dcterms:created>
  <dc:creator>TPS</dc:creator>
  <dc:description/>
  <dc:language>en-US</dc:language>
  <cp:lastModifiedBy>TPS</cp:lastModifiedBy>
  <dcterms:modified xsi:type="dcterms:W3CDTF">2007-11-30T20:29:15Z</dcterms:modified>
  <cp:revision>2</cp:revision>
  <dc:subject/>
  <dc:title>Slide 1</dc:title>
</cp:coreProperties>
</file>