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8EC-E846-43EC-96BA-6A7916FB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484-028A-40BC-918D-1EFF7264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0E2-5243-4EA3-995C-0CA0DE3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E98-7E87-4CFC-A81C-B8A09ACD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207-8508-48B1-B11F-C40BD3C5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44B-058A-4994-B7EF-5FB6076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E3F-A5AA-408E-B2CE-D40BDBD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90F-23C2-415E-8363-4E2F2F50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FF5-ECB0-4550-879E-2E05C00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5F2-614E-4D0B-8339-01BEAF0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01A-0DAA-4431-A4E0-3AF12BA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8DF-AB4B-45BB-A1E2-63E460E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98C-05E6-4256-B65E-2CED4B45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85800" y="457200"/>
          <a:ext cx="7848720" cy="5730840"/>
        </p:xfrm>
        <a:graphic>
          <a:graphicData uri="http://schemas.openxmlformats.org/drawingml/2006/table">
            <a:tbl>
              <a:tblPr/>
              <a:tblGrid>
                <a:gridCol w="1163520"/>
                <a:gridCol w="981360"/>
                <a:gridCol w="981000"/>
                <a:gridCol w="836640"/>
                <a:gridCol w="1066680"/>
                <a:gridCol w="1039680"/>
                <a:gridCol w="865440"/>
                <a:gridCol w="914400"/>
              </a:tblGrid>
              <a:tr h="558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SEME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 Skill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un They 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Conclu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In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 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and Irregular 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will choose two of the forms of writing from Theme 6 to take through the writing proces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ymed Po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 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 Le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E 6 SEL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oss the Wide Dark S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al 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mental im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Ten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s 13-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This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nd Confirm Predi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and Denot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Taking Strateg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Mess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 &amp; Encycl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s and Neg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wis and Cl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and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Deco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honic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ion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aur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ycloped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otation &amp; Den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 and Comparing with Adver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ront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f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 and Paraphr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Context to Confirm 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oph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ny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al Phr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1:04:46Z</dcterms:created>
  <dc:creator>TPS</dc:creator>
  <dc:description/>
  <dc:language>en-US</dc:language>
  <cp:lastModifiedBy>TPS</cp:lastModifiedBy>
  <dcterms:modified xsi:type="dcterms:W3CDTF">2007-08-01T23:26:29Z</dcterms:modified>
  <cp:revision>10</cp:revision>
  <dc:subject/>
  <dc:title>Slide 1</dc:title>
</cp:coreProperties>
</file>