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51F-EB32-4B16-A63C-B9EBF417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C2F-BEC8-459A-8393-2A65D92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C05-ACCD-4315-B1FC-017C966E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FF2-0A6B-4CB2-A6B7-3437A2B5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061-136E-47B1-9220-384800F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688-1AC7-43FF-B6AC-7B22E644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BAB-838C-4D88-ADCC-425D99E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AB1-3413-4264-84F8-7398B58C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0B7-01B6-446D-B8ED-5DFAC927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95E-7737-419D-9223-252C86FF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DF4-0A5D-416E-BAFA-5B7B289C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E82-25B2-41B7-9DF1-9062FF4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4966-9CCC-4828-BEDF-C4D85E126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457200"/>
          <a:ext cx="7848720" cy="573084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836640"/>
                <a:gridCol w="1066680"/>
                <a:gridCol w="103968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un They 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and Irregular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choose two of the forms of writing from Theme 6 to take through th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ymed Po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 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 Le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6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oss the Wide Dark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is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and Deno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Taking Strateg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 &amp; Encycl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and Neg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s and Cl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hon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au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yclop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&amp;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 and Comparing with Ad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ront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al Phr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29Z</dcterms:modified>
  <cp:revision>10</cp:revision>
  <dc:subject/>
  <dc:title>Slide 1</dc:title>
</cp:coreProperties>
</file>