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B5D-6FFC-4BAE-A42F-8D22E8BB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131-938D-44A9-9F36-244F610A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825-A910-4106-BF05-4E5ACD87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8B4-BBB9-48A7-B0B7-D84509E5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204-CA17-4110-8BFE-26DC0DC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DF4-B5B2-4C64-AFED-01314B2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20A-659B-4CEA-B1BB-4F8BCEE1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493-AF37-460F-9C07-FE3C9645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A1E-4B9C-46DF-9ADE-10E6E58B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ABD-C82E-4907-8DE4-C11ADD45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26B-897C-467D-A7C4-AC2B215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C0D-A6D3-4ABF-A007-303AEF7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69A3-EC46-4528-998D-DAA98DFAF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628956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981000"/>
                <a:gridCol w="981000"/>
                <a:gridCol w="98100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4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ie’s Birthday Bo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Relationships (Multiple meaning wor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relation to multiple meaning word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chmo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and Opi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gg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hades of Mean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 Adjectives and Comparing with Adjec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5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and Ru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-character development actions &amp; tra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words in Engl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and Help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and Link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Resear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. Hensh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Perspective and Infer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 Structur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Mean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Te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and Futu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n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and Persp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 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y/Cat-ego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-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parts of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54Z</dcterms:modified>
  <cp:revision>7</cp:revision>
  <dc:subject/>
  <dc:title>Slide 1</dc:title>
</cp:coreProperties>
</file>