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5497-75B8-4A10-9D4C-0E3A3D223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ECBE-E25E-4033-980E-C03C9822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3338-C047-4F29-B24E-DBDBBCD8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46C6-43FC-4C4C-869F-A3900F093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F9CC-0FE1-46C1-893B-1FBDB0BB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4A2A-654B-47EC-BC52-73D2F991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837E-4762-42DC-8254-9BE19FEA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D9B2-5327-4060-A5E2-ABE9E449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C808-1CA0-4F62-B2D5-193E1090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CDF0-D720-45EC-ABB1-D098C449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CD17-06B1-468B-8F5A-AF33EAA8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CF53-F171-493C-B046-CE0C7A8D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C8D8-3C95-46C7-9CFB-5ED24CD28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685800" y="304920"/>
          <a:ext cx="7848720" cy="6289560"/>
        </p:xfrm>
        <a:graphic>
          <a:graphicData uri="http://schemas.openxmlformats.org/drawingml/2006/table">
            <a:tbl>
              <a:tblPr/>
              <a:tblGrid>
                <a:gridCol w="1163520"/>
                <a:gridCol w="981360"/>
                <a:gridCol w="981000"/>
                <a:gridCol w="981000"/>
                <a:gridCol w="981000"/>
                <a:gridCol w="981000"/>
                <a:gridCol w="865440"/>
                <a:gridCol w="914400"/>
              </a:tblGrid>
              <a:tr h="5587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SEME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rter 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ion Ti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trate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 Skill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m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E 4 SEL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tie’s Birthday Bo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Sto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Relationships (Multiple meaning word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 relation to multiple meaning word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In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i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grap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lexive Prono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 will take the following writing form through the entire writing proces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s 13-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chmo’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al Narr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 and Opi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Ahe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gurative Langu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gg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grap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ct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hades of Meaning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 Adjectives and Comparing with Adjec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28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E 5 SEL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 and Run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stic 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 Structur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e and Contr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Context to Confirm 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zation-character development actions &amp; trai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Meaning Wor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ish words in Engli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and Helping Verb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 and Linking Verb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in-storming to Publication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Researc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r Mr. Hensha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stic 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 Structur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e and Contr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and Confirm Predi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or’s Purpose Perspective and Inferen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z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  Structure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n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Meanin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Ten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 and Futur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nd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stic 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or’s Purpose and Perspe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Decoding Phon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of 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fy/Cat-egor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za-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ph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al parts of verb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1:04:46Z</dcterms:created>
  <dc:creator>TPS</dc:creator>
  <dc:description/>
  <dc:language>en-US</dc:language>
  <cp:lastModifiedBy>TPS</cp:lastModifiedBy>
  <dcterms:modified xsi:type="dcterms:W3CDTF">2007-08-01T23:26:54Z</dcterms:modified>
  <cp:revision>7</cp:revision>
  <dc:subject/>
  <dc:title>Slide 1</dc:title>
</cp:coreProperties>
</file>