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442E-4627-4B15-8594-AAF77DCA4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5268-0BE0-424A-A2C5-05D3EF2A7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47D5-FA49-4818-AC37-484307CD1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A848-BA0B-4472-9CA7-657558215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A0D8-D761-41A8-8108-1E1C1EBF9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DE8B-C97D-49D0-8288-1E3173585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D3BC-801A-4AD5-A375-C787376A8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D39F-42A4-4038-A3F2-889F7E832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22F7-1F15-4AF9-9973-AEB5D260F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4BA3-EC87-4080-A69A-5494396DE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DE2F-6BCB-4496-AB8B-9E76E4D00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E554-B787-47E9-B90B-FCBF7C807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A22C9-A257-4506-8372-195C37824C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" name=""/>
          <p:cNvGraphicFramePr/>
          <p:nvPr/>
        </p:nvGraphicFramePr>
        <p:xfrm>
          <a:off x="685800" y="304920"/>
          <a:ext cx="7848720" cy="6289560"/>
        </p:xfrm>
        <a:graphic>
          <a:graphicData uri="http://schemas.openxmlformats.org/drawingml/2006/table">
            <a:tbl>
              <a:tblPr/>
              <a:tblGrid>
                <a:gridCol w="1163520"/>
                <a:gridCol w="981360"/>
                <a:gridCol w="981000"/>
                <a:gridCol w="981000"/>
                <a:gridCol w="981000"/>
                <a:gridCol w="981000"/>
                <a:gridCol w="865440"/>
                <a:gridCol w="914400"/>
              </a:tblGrid>
              <a:tr h="558720"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OND SEMEST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rter 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lection Tit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cus Ski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cus Strateg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tra Skill(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ud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mm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it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tt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160"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ME 4 SELEC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5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ttie’s Birthday Bo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rt Stor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d Relationships (Multiple meaning word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lf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estionin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in relation to multiple meaning words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ke In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il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mograph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flexive Pronou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udents will take the following writing form through the entire writing process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imu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ts 13-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tchmo’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u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rmational Narrativ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ct and Opin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d Ahea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gurative Languag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agge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mograph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act Word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hades of Meaning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er Adjectives and Comparing with Adjectiv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2880"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ME 5 SELEC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8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f and Runn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listic Fic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 Structure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are and Contra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ing Context to Confirm Mean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racterization-character development actions &amp; trait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ltiple Meaning Word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anish words in Englis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logi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n and Helping Verb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on and Linking Verb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ain-storming to Publication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Research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ort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ar Mr. Hensha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listic Fic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 Structure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are and Contra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ke and Confirm Predic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thor’s Purpose Perspective and Inferenc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racteriza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  Structure: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quenc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logi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d Meaning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 Ten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st and Futur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ns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ind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listic Fic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thor’s Purpose and Perspectiv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 Decoding Phonic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of vie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ify/Cat-egoriz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racteriza-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mophon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nonym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ncipal parts of verb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1T21:04:46Z</dcterms:created>
  <dc:creator>TPS</dc:creator>
  <dc:description/>
  <dc:language>en-US</dc:language>
  <cp:lastModifiedBy>TPS</cp:lastModifiedBy>
  <dcterms:modified xsi:type="dcterms:W3CDTF">2007-08-01T23:26:54Z</dcterms:modified>
  <cp:revision>7</cp:revision>
  <dc:subject/>
  <dc:title>Slide 1</dc:title>
</cp:coreProperties>
</file>