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738-9557-4DFB-9583-E052FE19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3921-374B-4E53-948D-7E7B6D82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26E9-3BFF-41FA-854F-4A8EC9A7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46B-AE90-469B-B715-0AA3AD8B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9731-D9E6-4A83-A602-8006A0D4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9260-C99E-4429-B7EB-5AD26700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4C7C-CE18-4F5B-9453-87C5F17A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F28-DE65-400A-8B1F-39A4EF2E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3D8-6215-48B1-9471-6FD1BB6E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01FC-F356-44B5-B3F6-AC3135BA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3C6-68DE-4937-A44D-1E53A345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347-E61A-47F6-99EB-DB41A381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5AA8-7102-43C9-B0B9-F79825A3D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85800" y="304920"/>
          <a:ext cx="7848720" cy="6289560"/>
        </p:xfrm>
        <a:graphic>
          <a:graphicData uri="http://schemas.openxmlformats.org/drawingml/2006/table">
            <a:tbl>
              <a:tblPr/>
              <a:tblGrid>
                <a:gridCol w="1163520"/>
                <a:gridCol w="981360"/>
                <a:gridCol w="981000"/>
                <a:gridCol w="981000"/>
                <a:gridCol w="981000"/>
                <a:gridCol w="981000"/>
                <a:gridCol w="865440"/>
                <a:gridCol w="914400"/>
              </a:tblGrid>
              <a:tr h="558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4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ie’s Birthday Bo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St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Relationships (Multiple meaning word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relation to multiple meaning word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In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xive Pro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take the following writing form through the entir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13-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chmo’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al Narr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 and Opi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gg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ct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hades of Meanin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 Adjectives and Comparing with Adjec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5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 and Ru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stic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 and Contr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Context to Confirm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tion-character development actions &amp; tra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 words in Engli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and Helping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 and Linking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-storming to Publicatio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Resear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r Mr. Hensh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stic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 and Contr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and Confirm Predi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’s Purpose Perspective and Infer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 Structur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Mean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Te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and Futur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n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stic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’s Purpose and Perspe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Decoding Phon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y/Cat-egor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-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 parts of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1T23:26:54Z</dcterms:modified>
  <cp:revision>7</cp:revision>
  <dc:subject/>
  <dc:title>Slide 1</dc:title>
</cp:coreProperties>
</file>