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E00-C1C8-4DB4-92D8-C430E88F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575-1121-4726-951E-5E933D63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8AC-E13F-49DA-9C3E-8DD3F534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75A-DBAB-453F-9E42-B1CFB5AC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913-646D-465E-96DC-D8FA1E94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36B-CA89-4821-8F3E-E23BF883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E40-D7F1-47D5-B823-E552145D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8C7-3D36-434E-A25D-BA4CA177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266-A905-4DA7-9DBE-F3E0F7FF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DC8-6678-452F-958D-772A460C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578-7E82-493F-8104-B510CF89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FBC-43EA-45AF-A5EE-0D920500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2DCF-103F-4B0A-BF24-7CB70A853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304920"/>
          <a:ext cx="7848720" cy="575460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798480"/>
                <a:gridCol w="981000"/>
                <a:gridCol w="981000"/>
                <a:gridCol w="1163520"/>
                <a:gridCol w="1017720"/>
                <a:gridCol w="762120"/>
              </a:tblGrid>
              <a:tr h="6109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2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s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Narr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&am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to Clari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and Proper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s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7-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and of the Blue Dolph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ative E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-ma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 and Plural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3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gl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al Tex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es, Suffixes, and Ro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Techn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ry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ive 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ersonal Narr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Persuasive E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 of F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Ai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Text Structure and Form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-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 Techn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ouns and Anteced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and Object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se of the Flying-Saucer Peo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te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 &amp; 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Decoding/Phon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Me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o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ive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2T20:10:42Z</dcterms:modified>
  <cp:revision>6</cp:revision>
  <dc:subject/>
  <dc:title>Slide 1</dc:title>
</cp:coreProperties>
</file>