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2FF-6758-4ED4-BCF9-039C8B91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132-78D6-4002-896A-74D13715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4C7-4E36-4084-ACBB-E56438CF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B20-E09C-4648-A0EA-096843B0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B0D-33E5-46FA-9B23-ACBA3C36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D70-CCB4-4D9D-9DF9-D910FBB8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27E-3EA9-49BE-A07A-E87D17C9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50F-CC28-42CF-882D-CDCD8A1B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023-1DB6-42B2-A498-34D9D59D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0CA-6287-4185-A5A1-75529C01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5D6-8B50-47FD-A5E6-28B61E4D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5A0-ADEA-4C9A-B13D-025C530F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1226-5161-49DB-BA9F-6C508082E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575460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798480"/>
                <a:gridCol w="981000"/>
                <a:gridCol w="981000"/>
                <a:gridCol w="1163520"/>
                <a:gridCol w="1017720"/>
                <a:gridCol w="762120"/>
              </a:tblGrid>
              <a:tr h="61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s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o Clari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and Proper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7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nd of the Blue Dolph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-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and Plural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3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gl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Tex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and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Persuasive E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of F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A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-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s and Anteced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and Object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se of the Flying-Saucer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t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&amp; 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Decoding/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2T20:10:42Z</dcterms:modified>
  <cp:revision>6</cp:revision>
  <dc:subject/>
  <dc:title>Slide 1</dc:title>
</cp:coreProperties>
</file>