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638-3337-4B72-9AB2-C9370C6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A94-736C-4408-950B-03906563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2A1-36E4-43DF-AE72-F1898031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72E-276B-4BF3-9FCC-477B65BE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07E-5FF9-4F09-96EF-684FF2F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768-0F05-4D87-8CE2-CCC2CFF3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BA6-4448-4C0C-9BDA-ED9BAF8F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432-17F1-48DA-9628-E454F15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829-621C-4CA4-875B-4C79AF1A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437-EE3D-4A02-BF4F-2EA8295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178-BFCF-4792-8C8A-7080224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F59-B899-42A6-94E3-452241A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40F6-95D5-470C-9AB7-10CA146E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62120" y="609480"/>
          <a:ext cx="7848360" cy="5978520"/>
        </p:xfrm>
        <a:graphic>
          <a:graphicData uri="http://schemas.openxmlformats.org/drawingml/2006/table">
            <a:tbl>
              <a:tblPr/>
              <a:tblGrid>
                <a:gridCol w="1163520"/>
                <a:gridCol w="981000"/>
                <a:gridCol w="798480"/>
                <a:gridCol w="981360"/>
                <a:gridCol w="981000"/>
                <a:gridCol w="1163520"/>
                <a:gridCol w="1017720"/>
                <a:gridCol w="761760"/>
              </a:tblGrid>
              <a:tr h="5922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1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s Behind Tr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, Declarativ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, and Exclamatory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s.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Patterns and 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Sub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d Simple Predic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Never Forget You, Roberto Cle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graph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Reading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Judg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und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and Compound 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-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ssay that Ex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 Tales from 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k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&amp; 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z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u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itarod D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752480" y="152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ade Quarterly Units Harcour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7:51Z</dcterms:modified>
  <cp:revision>3</cp:revision>
  <dc:subject/>
  <dc:title>Slide 1</dc:title>
</cp:coreProperties>
</file>