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5724-E737-4799-9A8D-737A5118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825-C09A-4AAD-9FD6-53BDC585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DEDC-1516-48E2-8F2B-F05DEC60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FC5-4695-4D74-8218-7A3A9A04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C66-8E20-4CE4-A985-E292B4A4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BA62-1724-47DB-B9DE-32DB70EB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84D-04A0-4953-A1FB-2DDEB641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088F-DD21-4969-9254-C2F29139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A91-451F-44B0-936B-3ADFE196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C3A-3DC5-4BD5-835B-E8105F52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282E-B0AB-4D66-A8D7-B0FE015D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1B55-BAC9-4F93-83DD-8ACD560D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FFF2-3411-41AF-9880-46AFA3924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762120" y="609480"/>
          <a:ext cx="7848360" cy="5978520"/>
        </p:xfrm>
        <a:graphic>
          <a:graphicData uri="http://schemas.openxmlformats.org/drawingml/2006/table">
            <a:tbl>
              <a:tblPr/>
              <a:tblGrid>
                <a:gridCol w="1163520"/>
                <a:gridCol w="981000"/>
                <a:gridCol w="798480"/>
                <a:gridCol w="981360"/>
                <a:gridCol w="981000"/>
                <a:gridCol w="1163520"/>
                <a:gridCol w="1017720"/>
                <a:gridCol w="761760"/>
              </a:tblGrid>
              <a:tr h="5922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1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s Behind Tr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al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rative E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Mental Im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ry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es, suffixes, ro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ative, Declarative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ogative, and Exclamatory 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take the following writing forms through the entir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1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r Mrs. Pa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Judg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Text Structure and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iar Patterns and 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and Simple Subj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and Simple Predic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2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ll Never Forget You, Roberto Clem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graph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 Reading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Judg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 and Compound 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-storming to Publi-cat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ersonal Narr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Essay that Expla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k Tales from 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kt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and 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context to confirm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 &amp; Ant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ize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u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itarod Dr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&amp; 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x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1752480" y="1522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 Quarterly Units Harcourt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1T23:27:51Z</dcterms:modified>
  <cp:revision>3</cp:revision>
  <dc:subject/>
  <dc:title>Slide 1</dc:title>
</cp:coreProperties>
</file>