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A0D-56E5-4747-AF45-8415176E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F59-2C7B-44B2-A2D5-808533DD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C62-22A7-4830-8A8C-D4B3234E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DE5-7D0E-48D3-B5D6-E6FC584A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10E-DDB8-4BDB-88F7-1EEB735A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C21-380C-4830-82D9-2E30BE8F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3FC-4E1D-424D-A43C-60A513C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7A3-8439-438B-A495-6F481162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DE4-7226-4BD2-BE74-5BCE5CA0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DAD-E37A-4073-9E7F-DBDB2FB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6DF-4C79-4AA7-8F54-99FC6E1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E73-5DE9-42A6-AEBE-A362601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FEFC-492A-4C35-ADFC-1FD81F11C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62120" y="609480"/>
          <a:ext cx="7848360" cy="5978520"/>
        </p:xfrm>
        <a:graphic>
          <a:graphicData uri="http://schemas.openxmlformats.org/drawingml/2006/table">
            <a:tbl>
              <a:tblPr/>
              <a:tblGrid>
                <a:gridCol w="1163520"/>
                <a:gridCol w="981000"/>
                <a:gridCol w="798480"/>
                <a:gridCol w="981360"/>
                <a:gridCol w="981000"/>
                <a:gridCol w="1163520"/>
                <a:gridCol w="1017720"/>
                <a:gridCol w="761760"/>
              </a:tblGrid>
              <a:tr h="592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1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s Behind Tr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, Declarativ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, and Exclamatory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s.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Patterns and 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Sub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Pred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Never Forget You, Roberto Cle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Reading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and Compound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-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Essay that Ex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 Tales from 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&amp; 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z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itarod D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752480" y="152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 Quarterly Units Harcour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7:51Z</dcterms:modified>
  <cp:revision>3</cp:revision>
  <dc:subject/>
  <dc:title>Slide 1</dc:title>
</cp:coreProperties>
</file>