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AF0-E0FD-488C-B3AF-65308988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9B5-FCBA-4419-8EED-0920775D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0A9-8D7C-4124-A763-3A3D1860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20C-36F2-4EBB-89BC-DFDAEEEB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F00-9684-47F5-93B0-88C114D6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F55-66CF-4016-8ED4-6F70A8C0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DEE-BA6B-42AE-AC54-3E8D53BB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8E5D-F3F9-40F6-91B9-05132776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F5BC-562B-4AA7-91F7-0222C983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FE89-29E6-484B-B38F-3348F13C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03A-0161-4EFC-BFB5-93EB2EEC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037-61E7-40FC-8172-26341EF7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D49F-3186-416D-BB4E-91ADDC336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85800" y="304920"/>
          <a:ext cx="7848720" cy="6289560"/>
        </p:xfrm>
        <a:graphic>
          <a:graphicData uri="http://schemas.openxmlformats.org/drawingml/2006/table">
            <a:tbl>
              <a:tblPr/>
              <a:tblGrid>
                <a:gridCol w="1163520"/>
                <a:gridCol w="981360"/>
                <a:gridCol w="981000"/>
                <a:gridCol w="981000"/>
                <a:gridCol w="981000"/>
                <a:gridCol w="981000"/>
                <a:gridCol w="865440"/>
                <a:gridCol w="914400"/>
              </a:tblGrid>
              <a:tr h="558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4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ie’s Birthday Bo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St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Relationships (Multiple meaning word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relation to multiple meaning word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In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xive Pro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take the following writing form through the entir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13-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chmo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al Narr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 and Opi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gg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ct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hades of Meanin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 Adjectives and Comparing with Adjec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5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 and Ru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stic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 and Contr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Context to Confirm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tion-character development actions &amp; tra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 words in Engli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and Helping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 and Linking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-storming to Publicat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Resear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r Mr. Hensh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stic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 and Contr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and Confirm Predi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’s Purpose Perspective and Infer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 Structur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Mean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Te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and Futur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n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stic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’s Purpose and Perspe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Decoding Phon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y/Cat-egor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-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 parts of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1T23:26:54Z</dcterms:modified>
  <cp:revision>7</cp:revision>
  <dc:subject/>
  <dc:title>Slide 1</dc:title>
</cp:coreProperties>
</file>