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EA5-B265-435A-B1BD-F526F3A3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F54-53EB-4BE7-8BC0-78CD6B33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8DF-9D44-407D-98A6-2ED4733D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2A5-4DC2-4361-89D4-5270D786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BBE-D1EF-471D-887E-39E03F9F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851-8018-4B72-A7F9-9E6C2AAA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11A-3A2A-4FEB-A5D1-3BDF1C64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9E2-3904-4086-A499-8A7C9120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D95-74C6-4C87-8F85-1C659E70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C9B-B592-4B2B-8A6B-EB8469D5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4B9-5A58-4BD0-94B7-A405FF5C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046-7D59-4F91-8056-D8F47669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6E4C-EA9D-4BA5-96A0-6211B2E25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304920"/>
          <a:ext cx="7848720" cy="628956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981000"/>
                <a:gridCol w="981000"/>
                <a:gridCol w="981000"/>
                <a:gridCol w="981000"/>
                <a:gridCol w="865440"/>
                <a:gridCol w="914400"/>
              </a:tblGrid>
              <a:tr h="558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4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ie’s Birthday Bo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S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Relationships (Multiple meaning wor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relation to multiple meaning word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xive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3-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chmo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al Narr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 and Opi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gg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hades of Mean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 Adjectives and Comparing with Adjec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5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 and Ru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Contr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-character development actions &amp; tra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 words in Engli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and Helping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and Linking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Resear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r Mr. Hensh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Contr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nd Confirm Predi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 Purpose Perspective and Infer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 Structur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Mean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Te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and Futu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n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 Purpose and Persp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Decoding Phon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y/Cat-ego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-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 parts of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6:54Z</dcterms:modified>
  <cp:revision>7</cp:revision>
  <dc:subject/>
  <dc:title>Slide 1</dc:title>
</cp:coreProperties>
</file>