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819-FE05-43D6-B8E0-07C123BA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7A0-E5A9-4433-BCE0-3D6BFB0B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DEF-A734-4160-8EAA-E1C21B26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7D3-A25D-46E7-BBBC-9245C729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ADF-C694-4728-86BC-C8F2F82C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16A-B93A-4077-B6ED-30DB2C96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3CE-03F9-481A-AD6F-EACAAA3F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E06-E0D9-4435-9486-829654A2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537E-677B-4522-89EC-6BBA6904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15E5-83A3-4750-9D6F-2E664C32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0C1-B1CF-4C87-BF3A-6E2A732E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979-237F-474D-B03B-AFF6523E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DC87-E3D2-4DF2-BEDD-1498FD69E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304920"/>
          <a:ext cx="7848720" cy="575460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798480"/>
                <a:gridCol w="981000"/>
                <a:gridCol w="981000"/>
                <a:gridCol w="1163520"/>
                <a:gridCol w="1017720"/>
                <a:gridCol w="762120"/>
              </a:tblGrid>
              <a:tr h="6109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2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s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Narr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&am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to Clari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and Proper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s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7-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and of the Blue Dolph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ative E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-ma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 and Plural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3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gl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al Tex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es, Suffixes, and Ro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Techn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ry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ive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ersonal Narr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Persuasive E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 of F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Ai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Text Structure and Form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-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Techn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ouns and Anteced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and Object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se of the Flying-Saucer Peo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te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 &amp; 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Decoding/Phon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Me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o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ive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2T20:10:42Z</dcterms:modified>
  <cp:revision>6</cp:revision>
  <dc:subject/>
  <dc:title>Slide 1</dc:title>
</cp:coreProperties>
</file>