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54A-EDFA-4EB8-BBA5-23B57A5A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A8B-6134-4F66-AE29-7EE187B8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61E-2C60-428A-829D-641533D4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B21-4B73-4563-97CD-31A8DDE0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022-9DE9-4202-AFAF-187973AC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3CD-EE68-41AC-AB7B-665FCDF2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AB9-618B-4C0F-A98F-22739A8B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E96-369D-4E65-94B8-2793CDA1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4DA-9F47-43E1-8995-330DF8CF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899-8F12-4D84-9B93-BB7808E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792-8402-4444-AB54-DDDA64A7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4D4-C4AB-4B26-B777-E40B4EFF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C9FE-8876-496E-A185-6435F0C31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575460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798480"/>
                <a:gridCol w="981000"/>
                <a:gridCol w="981000"/>
                <a:gridCol w="1163520"/>
                <a:gridCol w="1017720"/>
                <a:gridCol w="762120"/>
              </a:tblGrid>
              <a:tr h="61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s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o Clari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and Proper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7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nd of the Blue Dolph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-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and Plural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3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gl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Tex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and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Persuasive E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of F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A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-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s and Anteced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and Object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se of the Flying-Saucer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t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&amp; 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Decoding/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2T20:10:42Z</dcterms:modified>
  <cp:revision>6</cp:revision>
  <dc:subject/>
  <dc:title>Slide 1</dc:title>
</cp:coreProperties>
</file>