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72A-747A-43C6-8275-C02B06AE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1F2-D013-4445-8DA7-98C489D6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520-CC0B-43BA-94E6-2AE8402B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D00-59ED-422F-9EE5-F4E932B3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BEB-49E5-4661-9FC2-C4E86C1F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0AB-7389-40BE-8043-9B648CD7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669-E3D5-4CD2-9A4A-7A6AA80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071-EA65-4552-B0E6-A1624552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F2E-2172-434D-8C46-684EE72E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F96-196D-4162-A0AB-D100511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E45-D6E8-421D-A368-238CDA1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68B-A478-4044-B0D0-9F5B710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2411-793A-46E8-8CEE-2C404815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62120" y="609480"/>
          <a:ext cx="7848360" cy="5978520"/>
        </p:xfrm>
        <a:graphic>
          <a:graphicData uri="http://schemas.openxmlformats.org/drawingml/2006/table">
            <a:tbl>
              <a:tblPr/>
              <a:tblGrid>
                <a:gridCol w="1163520"/>
                <a:gridCol w="981000"/>
                <a:gridCol w="798480"/>
                <a:gridCol w="981360"/>
                <a:gridCol w="981000"/>
                <a:gridCol w="1163520"/>
                <a:gridCol w="1017720"/>
                <a:gridCol w="761760"/>
              </a:tblGrid>
              <a:tr h="592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1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s Behind Tr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, Declarativ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, and Exclamatory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s.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Patterns and 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Sub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Pred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Never Forget You, Roberto Cle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Reading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and Compound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-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ssay that Ex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 Tales from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&amp; 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z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tarod D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75248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 Quarterly Units Harcour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7:51Z</dcterms:modified>
  <cp:revision>3</cp:revision>
  <dc:subject/>
  <dc:title>Slide 1</dc:title>
</cp:coreProperties>
</file>