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AC7-8D4C-466D-8E13-47F67761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5FB-6569-4F2F-98DE-F93E50F9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782-7E88-4561-BC5A-FC333DE4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17B-DFF6-4E31-909C-E2320DF0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326-33F8-4ED6-B309-82FD236F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BA4-DD25-4F3B-B751-3CDDDD7A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670-2221-4334-BD3D-43A1E1D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B8F-180F-456B-88E3-9247724D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197-D72A-4245-981A-826230B1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10D-0701-474D-825D-BF53EEF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EED-4C7C-4A11-9572-8EA1E68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AA0-7406-432C-A574-84A95D4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C06A-5FC6-489B-AF0E-D9786E075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62120" y="609480"/>
          <a:ext cx="7848360" cy="5978520"/>
        </p:xfrm>
        <a:graphic>
          <a:graphicData uri="http://schemas.openxmlformats.org/drawingml/2006/table">
            <a:tbl>
              <a:tblPr/>
              <a:tblGrid>
                <a:gridCol w="1163520"/>
                <a:gridCol w="981000"/>
                <a:gridCol w="798480"/>
                <a:gridCol w="981360"/>
                <a:gridCol w="981000"/>
                <a:gridCol w="1163520"/>
                <a:gridCol w="1017720"/>
                <a:gridCol w="761760"/>
              </a:tblGrid>
              <a:tr h="592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1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s Behind Tr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, Declarativ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, and Exclamatory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s.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Patterns and 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Sub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Pred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Never Forget You, Roberto Cle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Reading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and Compound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-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Essay that Ex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 Tales from 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&amp; 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z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itarod D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752480" y="152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 Quarterly Units Harcour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7:51Z</dcterms:modified>
  <cp:revision>3</cp:revision>
  <dc:subject/>
  <dc:title>Slide 1</dc:title>
</cp:coreProperties>
</file>