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AA1-AD64-478E-A279-A403CAC1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269-FBD1-40C7-9784-94A4A5AB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2E4-2163-4371-9C5A-2AC72146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6FC-3AC0-41C5-80E6-DBD5AC14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E17-5389-4BFE-BDB2-AF26DB3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F07-C029-45A4-8239-7A7E04A3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29B-49CE-45F2-A281-329C16E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D79-4C9B-49DB-8CEC-52007468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099-4622-4E61-9245-4B002A5F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D9E-F294-4543-87EB-B8EE194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6F9-3CC6-42D9-8EB6-80ABDC6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9B5-5CEA-43F6-9935-900A9BC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103D-238B-4BDD-8375-41C5A0B0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762120"/>
            <a:ext cx="525780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TESTED AF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Prefixes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Britannic Bold"/>
              </a:rPr>
              <a:t>Suffi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b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ble/-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o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nce/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en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r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64864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51:20Z</dcterms:created>
  <dc:creator>TPS</dc:creator>
  <dc:description/>
  <dc:language>en-US</dc:language>
  <cp:lastModifiedBy>TPS</cp:lastModifiedBy>
  <dcterms:modified xsi:type="dcterms:W3CDTF">2008-01-16T01:40:05Z</dcterms:modified>
  <cp:revision>4</cp:revision>
  <dc:subject/>
  <dc:title>Slide 1</dc:title>
</cp:coreProperties>
</file>