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AE2-45C9-461B-8F66-C8194D98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C02-B89D-4F81-9A00-F6A5F6D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423-7A55-45D4-8353-F53E8658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F64-7E8E-4A55-A55E-CA5329D0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B6D-6634-4923-B280-140F524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51E-3CE5-48E4-9FAA-F8FCE21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254-2692-489E-B50F-967CC7B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D0A-C4FA-4A1B-B9AD-89EBE0B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C48-65E3-4F0B-9B2D-0BA004B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7B9-29C6-4B2A-9698-D1A2375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E36-7766-49D7-B04B-153ECBF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A9F-CE8A-4ABD-9882-FD345AE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117-3BDD-4B76-BA3A-5B14B6F24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762120"/>
            <a:ext cx="525780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TESTED AFFI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Prefixes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Britannic Bold"/>
              </a:rPr>
              <a:t>Suffi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de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b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ble/-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co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-ance/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en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-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ri-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64864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51:20Z</dcterms:created>
  <dc:creator>TPS</dc:creator>
  <dc:description/>
  <dc:language>en-US</dc:language>
  <cp:lastModifiedBy>TPS</cp:lastModifiedBy>
  <dcterms:modified xsi:type="dcterms:W3CDTF">2008-01-16T01:40:05Z</dcterms:modified>
  <cp:revision>4</cp:revision>
  <dc:subject/>
  <dc:title>Slide 1</dc:title>
</cp:coreProperties>
</file>