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5B89-666B-4F21-A93E-8A1D69AC2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859A-6A15-45FA-A2F2-22A6966F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FA4E-B6E5-4F3E-9AF1-2CECA09D6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442C-5CAF-4679-BC00-5DBD62526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9C60-2518-499C-B69F-57791BEF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E0A6-3E79-47AF-B7F3-C11A8189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C43B-D570-45F1-842A-298A9B16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7F42-2419-457C-A140-8EA5359E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66D6-D835-4267-AAA4-54B35C31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B406-CF88-406D-A45D-755C57CF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312E-9B31-4BAF-B98E-C92CBEA7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3512-54F2-478E-8C16-AE6E437C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3C67-DAB9-44FE-A808-B4E7EFA42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2120" y="762120"/>
            <a:ext cx="5257800" cy="84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ritannic Bold"/>
              </a:rPr>
              <a:t>TESTED AFFIX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ritannic Bold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 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</a:t>
            </a:r>
            <a:r>
              <a:rPr b="0" lang="en-US" sz="3600" spc="-1" strike="noStrike" u="sng">
                <a:solidFill>
                  <a:srgbClr val="000099"/>
                </a:solidFill>
                <a:uFillTx/>
                <a:latin typeface="Britannic Bold"/>
              </a:rPr>
              <a:t>Prefixes</a:t>
            </a:r>
            <a:r>
              <a:rPr b="0" lang="en-US" sz="3600" spc="-1" strike="noStrike" u="sng">
                <a:solidFill>
                  <a:srgbClr val="000099"/>
                </a:solidFill>
                <a:uFillTx/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 </a:t>
            </a:r>
            <a:r>
              <a:rPr b="0" lang="en-US" sz="3600" spc="-1" strike="noStrike" u="sng">
                <a:solidFill>
                  <a:srgbClr val="cc0000"/>
                </a:solidFill>
                <a:uFillTx/>
                <a:latin typeface="Britannic Bold"/>
              </a:rPr>
              <a:t>Suffi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de-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    -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bi-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-able/-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co-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-ance/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en-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    -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tri-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00400" y="23623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6781680"/>
            <a:ext cx="6486480" cy="16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19:51:20Z</dcterms:created>
  <dc:creator>TPS</dc:creator>
  <dc:description/>
  <dc:language>en-US</dc:language>
  <cp:lastModifiedBy>TPS</cp:lastModifiedBy>
  <dcterms:modified xsi:type="dcterms:W3CDTF">2008-01-16T01:40:05Z</dcterms:modified>
  <cp:revision>4</cp:revision>
  <dc:subject/>
  <dc:title>Slide 1</dc:title>
</cp:coreProperties>
</file>