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BA2-ADF7-46DA-B0CD-309CB6D9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7DA-BB1E-4F5D-92EA-85F8617B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3AD-C653-4764-B39B-0A40FDD2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8E2-1521-48CF-BB3E-D60EF337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43E-2665-4A1C-81BE-EBAA8645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D41-37CB-4FB1-A694-6D022CA1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3A0-1A27-4EAB-A891-8F18D97B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D38-6857-4CA4-A6AD-AA5C040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1B0-2535-4F9A-870D-A664FA00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5DC-5575-49A3-92C9-4FD09B67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789-BEAA-4C35-9F14-324339C4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748-55CD-4143-97A5-EF36939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8BA5-4FAA-4012-AE8B-3A0684E11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762120"/>
            <a:ext cx="525780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TESTED AF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Prefixes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Britannic Bold"/>
              </a:rPr>
              <a:t>Suffi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b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ble/-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o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nce/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en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r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64864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51:20Z</dcterms:created>
  <dc:creator>TPS</dc:creator>
  <dc:description/>
  <dc:language>en-US</dc:language>
  <cp:lastModifiedBy>TPS</cp:lastModifiedBy>
  <dcterms:modified xsi:type="dcterms:W3CDTF">2008-01-16T01:40:05Z</dcterms:modified>
  <cp:revision>4</cp:revision>
  <dc:subject/>
  <dc:title>Slide 1</dc:title>
</cp:coreProperties>
</file>