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F4A-9617-47EA-8747-F00DFC7D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68E-D021-45D2-833F-571A0AA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FE1-1A42-48E6-8435-2BA77900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445-BA8C-4DCB-9F85-06E40DEC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D5F-A014-41FD-9FDF-25FFC35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EC6-7CD6-4AC1-A6C5-8182A0C1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FD4-DBF6-4E9A-B3D5-933966B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860-7975-4600-A9FB-A005E7B3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3C0-D224-4032-BB7B-93725A48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B0C-EE68-431A-BEFB-4D92F03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6D8-3120-4CE0-8F49-3548D74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BFA-746D-40B7-8645-E8648AA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61A0-324C-4CFA-BCFA-4889B0A0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762120"/>
            <a:ext cx="525780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TESTED AF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Prefixes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Britannic Bold"/>
              </a:rPr>
              <a:t>Suffi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b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ble/-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o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nce/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en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r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64864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51:20Z</dcterms:created>
  <dc:creator>TPS</dc:creator>
  <dc:description/>
  <dc:language>en-US</dc:language>
  <cp:lastModifiedBy>TPS</cp:lastModifiedBy>
  <dcterms:modified xsi:type="dcterms:W3CDTF">2008-01-16T01:40:05Z</dcterms:modified>
  <cp:revision>4</cp:revision>
  <dc:subject/>
  <dc:title>Slide 1</dc:title>
</cp:coreProperties>
</file>