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6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6B9-BB8B-4296-980E-83799853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BF9-EE44-452A-B11D-242B798A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511-8747-43BF-BC50-7054915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BEA-005B-4094-945E-4CD1DA1F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846-25F5-45F4-ABAC-64602D61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3CB-2915-476E-9752-9CCB3BFE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DB8-C60C-4A8A-83FC-65828141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241-630C-40C3-B9F1-ED9445D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C98-B484-4C2E-A888-6BD1D5E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E0D-22FA-4392-B359-F53E2AC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ACA-6350-4EDB-8D3C-7E6617B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EB3-5C78-446C-8B7B-B6D6F499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78D-9608-42D8-A9D8-9195A962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2590920" cy="21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ext Clu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cket flew into the sky carrying th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strona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mo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0"/>
            <a:ext cx="4648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800600" y="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ord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4419720" cy="3429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262400"/>
            <a:ext cx="4419720" cy="25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50532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t Featur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464832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191120"/>
            <a:ext cx="3343320" cy="240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3385800" y="484344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38680" y="3505320"/>
            <a:ext cx="32004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05320"/>
            <a:ext cx="4419720" cy="3352680"/>
          </a:xfrm>
          <a:prstGeom prst="rect">
            <a:avLst/>
          </a:prstGeom>
          <a:solidFill>
            <a:srgbClr val="1ecc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0"/>
            <a:ext cx="4419720" cy="3352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185760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15238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ause/Effect Description  Problem/Solution Comparison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xt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304920"/>
            <a:ext cx="4200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are and Contras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36576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 and Effec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762440" y="1447920"/>
            <a:ext cx="17146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1447920"/>
            <a:ext cx="1752840" cy="169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410080" y="4038480"/>
            <a:ext cx="251460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e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380880"/>
            <a:ext cx="8991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cator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3581280"/>
            <a:ext cx="9144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24382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05320"/>
            <a:ext cx="441972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505320"/>
            <a:ext cx="457200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0"/>
            <a:ext cx="4572000" cy="3352680"/>
          </a:xfrm>
          <a:prstGeom prst="rect">
            <a:avLst/>
          </a:prstGeom>
          <a:solidFill>
            <a:srgbClr val="e7fc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41972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97164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2096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1980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0"/>
            <a:ext cx="40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in Idea &amp; 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27672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724280" y="152280"/>
            <a:ext cx="4267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hor's Purp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57800" y="35812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aract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80880" y="24382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676520" y="2438280"/>
            <a:ext cx="823680" cy="6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124080" y="2438280"/>
            <a:ext cx="7527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57200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5320"/>
            <a:ext cx="4572000" cy="335268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0"/>
            <a:ext cx="4495680" cy="3352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505320"/>
            <a:ext cx="449568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752480"/>
            <a:ext cx="3352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t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00600" y="106668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10666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494600">
            <a:off x="4960800" y="22064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700000">
            <a:off x="7428600" y="1790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685800"/>
            <a:ext cx="1218960" cy="7621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914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20128200">
            <a:off x="4724280" y="914040"/>
            <a:ext cx="2130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429000"/>
            <a:ext cx="4572000" cy="342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4343400"/>
            <a:ext cx="3581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x 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962520"/>
            <a:ext cx="4114800" cy="23619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10080" y="4495680"/>
            <a:ext cx="3219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3x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429000"/>
            <a:ext cx="449568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e11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83808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4419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76920" y="434340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990720"/>
            <a:ext cx="4572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00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83808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257800" y="41911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41148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57800" y="838080"/>
            <a:ext cx="3276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4120" y="4267080"/>
            <a:ext cx="33526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4343400"/>
            <a:ext cx="33530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4120" y="1066680"/>
            <a:ext cx="31240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343400"/>
            <a:ext cx="34290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0" y="4419720"/>
            <a:ext cx="3581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81480" y="914400"/>
            <a:ext cx="35053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14400"/>
            <a:ext cx="327636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5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22:03:56Z</dcterms:created>
  <dc:creator>TPS</dc:creator>
  <dc:description/>
  <dc:language>en-US</dc:language>
  <cp:lastModifiedBy>TPS</cp:lastModifiedBy>
  <dcterms:modified xsi:type="dcterms:W3CDTF">2008-02-08T01:19:20Z</dcterms:modified>
  <cp:revision>16</cp:revision>
  <dc:subject/>
  <dc:title>Slide 1</dc:title>
</cp:coreProperties>
</file>