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53F-68FD-4693-9C68-695055A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7A4-C789-49AB-8FE9-48CD0A5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2EB-5EF0-4F49-8543-D52BDEB6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1FC-F7C8-45BD-9906-BB80380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466-954A-4814-8265-81D0267D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171-7CB5-4C6C-A459-7995AFC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C18-200A-454B-8032-9E61D10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31C-3FEF-4CC1-A320-7F1A6073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ED6-C0D4-46B8-9D20-B1F65BA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581-5B02-4B38-9255-56ABAAA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67C-0A70-4FCC-9ABA-8106D1D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24B-5DE1-48E0-B276-AA19A1E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630E-D95B-40C6-8882-1F9416EA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2590920" cy="21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ext Clu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cket flew into the sky carrying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strona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m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0"/>
            <a:ext cx="4648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00600" y="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ord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4419720" cy="3429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262400"/>
            <a:ext cx="4419720" cy="25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50532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t Featur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464832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3385800" y="484344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38680" y="3505320"/>
            <a:ext cx="3200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0532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0"/>
            <a:ext cx="4419720" cy="3352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185760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15238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ause/Effect Description  Problem/Solution Comparison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xt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304920"/>
            <a:ext cx="4200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e and Contra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36576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 and Effec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762440" y="1447920"/>
            <a:ext cx="17146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1752840" cy="169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10080" y="4038480"/>
            <a:ext cx="251460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380880"/>
            <a:ext cx="8991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cator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3581280"/>
            <a:ext cx="9144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24382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457200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0"/>
            <a:ext cx="4572000" cy="3352680"/>
          </a:xfrm>
          <a:prstGeom prst="rect">
            <a:avLst/>
          </a:prstGeom>
          <a:solidFill>
            <a:srgbClr val="e7fc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97164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096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1980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in Idea &amp; 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27672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280"/>
            <a:ext cx="4267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hor's 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57800" y="35812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ract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676520" y="2438280"/>
            <a:ext cx="823680" cy="6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752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57200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457200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49568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505320"/>
            <a:ext cx="449568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752480"/>
            <a:ext cx="3352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00600" y="106668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066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494600">
            <a:off x="4960800" y="22064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700000">
            <a:off x="7428600" y="1790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85800"/>
            <a:ext cx="1218960" cy="7621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20128200">
            <a:off x="4724280" y="914040"/>
            <a:ext cx="2130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4572000" cy="342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343400"/>
            <a:ext cx="3581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x 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962520"/>
            <a:ext cx="411480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10080" y="4495680"/>
            <a:ext cx="3219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3x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83808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4419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920" y="434340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990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83808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57800" y="41911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41148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57800" y="838080"/>
            <a:ext cx="3276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4120" y="426708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4343400"/>
            <a:ext cx="3353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4120" y="1066680"/>
            <a:ext cx="3124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343400"/>
            <a:ext cx="3429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0" y="441972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81480" y="9144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14400"/>
            <a:ext cx="3276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22:03:56Z</dcterms:created>
  <dc:creator>TPS</dc:creator>
  <dc:description/>
  <dc:language>en-US</dc:language>
  <cp:lastModifiedBy>TPS</cp:lastModifiedBy>
  <dcterms:modified xsi:type="dcterms:W3CDTF">2008-02-08T01:19:20Z</dcterms:modified>
  <cp:revision>16</cp:revision>
  <dc:subject/>
  <dc:title>Slide 1</dc:title>
</cp:coreProperties>
</file>