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jpeg" ContentType="image/jpeg"/>
  <Override PartName="/ppt/media/image11.png" ContentType="image/png"/>
  <Override PartName="/ppt/media/image7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6.gif" ContentType="image/gif"/>
  <Override PartName="/ppt/media/image2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9342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52712-504A-4054-953F-FD9027702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113AA-FE06-4EE4-8090-8A448126E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73364-3661-4A25-BC10-B8B95CA19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22B00-4992-4E6D-9975-7908A682C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670BA-9ECE-4F4A-849A-1E93CD3E3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1693B-159A-4922-AB08-89C6D2832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1C060-233F-49C1-A27E-9496E776F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814E9-78A9-4AC3-817E-487465826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AF8B4-A103-4CAC-AA20-30E7899AC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9516B-2C43-4461-B541-DAD9A6B59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E651E-1BB0-45E4-AC51-DAC554FE0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9F4B0-EFA4-466D-AE0B-CACB57CBF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B5985-9CFC-4233-B0D9-A6E5EF6B7C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gif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jpe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jpe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4419720" cy="3352680"/>
          </a:xfrm>
          <a:prstGeom prst="rect">
            <a:avLst/>
          </a:prstGeom>
          <a:solidFill>
            <a:srgbClr val="1ecc3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752480" y="1143000"/>
            <a:ext cx="2590920" cy="21430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>
            <a:off x="0" y="228600"/>
            <a:ext cx="43434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Context Clue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90512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rocket flew into the sky carrying the </a:t>
            </a:r>
            <a:r>
              <a:rPr b="1" i="1" lang="en-US" sz="1600" spc="-1" strike="noStrike">
                <a:solidFill>
                  <a:srgbClr val="ff0000"/>
                </a:solidFill>
                <a:latin typeface="Arial"/>
              </a:rPr>
              <a:t>astronau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to the mo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495680" y="0"/>
            <a:ext cx="4648320" cy="3352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4495680" y="0"/>
            <a:ext cx="4648320" cy="3276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 txBox="1"/>
          <p:nvPr/>
        </p:nvSpPr>
        <p:spPr>
          <a:xfrm>
            <a:off x="4800600" y="0"/>
            <a:ext cx="41148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Word Structur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48" name=""/>
          <p:cNvSpPr/>
          <p:nvPr/>
        </p:nvSpPr>
        <p:spPr>
          <a:xfrm>
            <a:off x="0" y="3429000"/>
            <a:ext cx="4419720" cy="342900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0" y="4262400"/>
            <a:ext cx="4419720" cy="25956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447920" y="44197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28600" y="3505320"/>
            <a:ext cx="40384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Text Features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2" name=""/>
          <p:cNvSpPr/>
          <p:nvPr/>
        </p:nvSpPr>
        <p:spPr>
          <a:xfrm>
            <a:off x="4495680" y="3429000"/>
            <a:ext cx="4648320" cy="3429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5562720" y="4191120"/>
            <a:ext cx="3343320" cy="2400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 txBox="1"/>
          <p:nvPr/>
        </p:nvSpPr>
        <p:spPr>
          <a:xfrm rot="5400000">
            <a:off x="3385800" y="4843440"/>
            <a:ext cx="3048120" cy="523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Inferenc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5638680" y="3505320"/>
            <a:ext cx="3200400" cy="44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Conclusio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0"/>
            <a:ext cx="4419720" cy="3352680"/>
          </a:xfrm>
          <a:prstGeom prst="rect">
            <a:avLst/>
          </a:prstGeom>
          <a:solidFill>
            <a:srgbClr val="1ecc3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0" y="3505320"/>
            <a:ext cx="4419720" cy="3352680"/>
          </a:xfrm>
          <a:prstGeom prst="rect">
            <a:avLst/>
          </a:prstGeom>
          <a:solidFill>
            <a:srgbClr val="1ecc3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3505320"/>
            <a:ext cx="4419720" cy="3352680"/>
          </a:xfrm>
          <a:prstGeom prst="rect">
            <a:avLst/>
          </a:prstGeom>
          <a:solidFill>
            <a:srgbClr val="e118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0" y="0"/>
            <a:ext cx="4419720" cy="3352680"/>
          </a:xfrm>
          <a:prstGeom prst="rect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52280" y="1143000"/>
            <a:ext cx="1857600" cy="2124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981080" y="1523880"/>
            <a:ext cx="23623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quence Cause/Effect Description  Problem/Solution Comparison/Contra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228600" y="0"/>
            <a:ext cx="40384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Text Structur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724280" y="304920"/>
            <a:ext cx="420048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Compare and Contrast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228600" y="4419720"/>
            <a:ext cx="3886200" cy="2286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 txBox="1"/>
          <p:nvPr/>
        </p:nvSpPr>
        <p:spPr>
          <a:xfrm>
            <a:off x="152280" y="3657600"/>
            <a:ext cx="40388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ause and Effect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4572000" y="3505320"/>
            <a:ext cx="4419720" cy="33526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4762440" y="1447920"/>
            <a:ext cx="1714680" cy="17524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5"/>
          <a:stretch/>
        </p:blipFill>
        <p:spPr>
          <a:xfrm>
            <a:off x="7010280" y="1447920"/>
            <a:ext cx="1752840" cy="169524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 txBox="1"/>
          <p:nvPr/>
        </p:nvSpPr>
        <p:spPr>
          <a:xfrm>
            <a:off x="5410080" y="4038480"/>
            <a:ext cx="2514600" cy="3812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Retel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0" y="0"/>
            <a:ext cx="9144000" cy="3352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152280" y="380880"/>
            <a:ext cx="8991720" cy="289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Indicator</a:t>
            </a:r>
            <a:endParaRPr b="0" lang="en-US" sz="96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505320"/>
            <a:ext cx="9144000" cy="3352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0" y="3581280"/>
            <a:ext cx="914400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Jeopardy</a:t>
            </a:r>
            <a:endParaRPr b="0" lang="en-US" sz="96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3124080" y="2438280"/>
            <a:ext cx="7621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0" y="3505320"/>
            <a:ext cx="4419720" cy="3352680"/>
          </a:xfrm>
          <a:prstGeom prst="rect">
            <a:avLst/>
          </a:prstGeom>
          <a:solidFill>
            <a:srgbClr val="e118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`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572000" y="3505320"/>
            <a:ext cx="4572000" cy="33526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572000" y="0"/>
            <a:ext cx="4572000" cy="3352680"/>
          </a:xfrm>
          <a:prstGeom prst="rect">
            <a:avLst/>
          </a:prstGeom>
          <a:solidFill>
            <a:srgbClr val="e7fc2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0"/>
            <a:ext cx="4419720" cy="335268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1523880" y="838080"/>
            <a:ext cx="971640" cy="11430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762120" y="2209680"/>
            <a:ext cx="2590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62120" y="22096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057400" y="22096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352680" y="22096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057400" y="19807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152280" y="0"/>
            <a:ext cx="403884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Main Idea &amp; Detail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029200" y="914400"/>
            <a:ext cx="3276720" cy="240048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4724280" y="152280"/>
            <a:ext cx="426744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Author's Purpos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0" y="3505320"/>
            <a:ext cx="4419720" cy="33526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4"/>
          <a:stretch/>
        </p:blipFill>
        <p:spPr>
          <a:xfrm>
            <a:off x="5105520" y="4343400"/>
            <a:ext cx="3657600" cy="25146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 txBox="1"/>
          <p:nvPr/>
        </p:nvSpPr>
        <p:spPr>
          <a:xfrm>
            <a:off x="5257800" y="3581280"/>
            <a:ext cx="327672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Character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5"/>
          <a:stretch/>
        </p:blipFill>
        <p:spPr>
          <a:xfrm>
            <a:off x="380880" y="2438280"/>
            <a:ext cx="762120" cy="5335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6"/>
          <a:stretch/>
        </p:blipFill>
        <p:spPr>
          <a:xfrm>
            <a:off x="1676520" y="2438280"/>
            <a:ext cx="823680" cy="6289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7"/>
          <a:stretch/>
        </p:blipFill>
        <p:spPr>
          <a:xfrm>
            <a:off x="3124080" y="2438280"/>
            <a:ext cx="75276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0"/>
            <a:ext cx="4572000" cy="335268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0" y="3505320"/>
            <a:ext cx="4572000" cy="3352680"/>
          </a:xfrm>
          <a:prstGeom prst="rect">
            <a:avLst/>
          </a:prstGeom>
          <a:solidFill>
            <a:srgbClr val="e118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48320" y="0"/>
            <a:ext cx="4495680" cy="335268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648320" y="3505320"/>
            <a:ext cx="4495680" cy="335268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72000" cy="335268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 txBox="1"/>
          <p:nvPr/>
        </p:nvSpPr>
        <p:spPr>
          <a:xfrm>
            <a:off x="685800" y="1752480"/>
            <a:ext cx="3352680" cy="648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Setting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4800600" y="1066680"/>
            <a:ext cx="274320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543800" y="1066680"/>
            <a:ext cx="114300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rot="19494600">
            <a:off x="4960800" y="22064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ising A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rot="2700000">
            <a:off x="7428600" y="17902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alling 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934320" y="685800"/>
            <a:ext cx="1218960" cy="762120"/>
          </a:xfrm>
          <a:prstGeom prst="irregularSeal1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086600" y="914400"/>
            <a:ext cx="83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lim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 rot="20128200">
            <a:off x="4724280" y="914040"/>
            <a:ext cx="213048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Plo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3429000"/>
            <a:ext cx="4572000" cy="3429000"/>
          </a:xfrm>
          <a:prstGeom prst="irregularSeal2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33520" y="4343400"/>
            <a:ext cx="358128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2x  Amoun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09" name=""/>
          <p:cNvSpPr/>
          <p:nvPr/>
        </p:nvSpPr>
        <p:spPr>
          <a:xfrm>
            <a:off x="4876920" y="3962520"/>
            <a:ext cx="4114800" cy="2361960"/>
          </a:xfrm>
          <a:prstGeom prst="horizontalScrol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410080" y="4495680"/>
            <a:ext cx="321948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 Black"/>
              </a:rPr>
              <a:t>3x Amoun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66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0"/>
            <a:ext cx="4495680" cy="3429000"/>
          </a:xfrm>
          <a:prstGeom prst="rect">
            <a:avLst/>
          </a:prstGeom>
          <a:solidFill>
            <a:srgbClr val="e118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solidFill>
            <a:srgbClr val="e118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3429000"/>
            <a:ext cx="4495680" cy="3429000"/>
          </a:xfrm>
          <a:prstGeom prst="rect">
            <a:avLst/>
          </a:prstGeom>
          <a:solidFill>
            <a:srgbClr val="e118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solidFill>
            <a:srgbClr val="e118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228600" y="838080"/>
            <a:ext cx="4572000" cy="172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100 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4419720"/>
            <a:ext cx="4572000" cy="172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100 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876920" y="4343400"/>
            <a:ext cx="4572000" cy="172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100 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800600" y="990720"/>
            <a:ext cx="4572000" cy="172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100 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838080"/>
            <a:ext cx="3581280" cy="172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 Black"/>
              </a:rPr>
              <a:t>150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 Black"/>
              <a:ea typeface="Arial Black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257800" y="4191120"/>
            <a:ext cx="3352680" cy="172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 Black"/>
              </a:rPr>
              <a:t>150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 Black"/>
              <a:ea typeface="Arial Black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09480" y="4114800"/>
            <a:ext cx="3505320" cy="172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 Black"/>
              </a:rPr>
              <a:t>150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 Black"/>
              <a:ea typeface="Arial Black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257800" y="838080"/>
            <a:ext cx="3276720" cy="172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 Black"/>
              </a:rPr>
              <a:t>150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990720"/>
            <a:ext cx="3352680" cy="172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200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4120" y="4267080"/>
            <a:ext cx="3352680" cy="172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200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609480" y="4343400"/>
            <a:ext cx="3353040" cy="172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200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4120" y="1066680"/>
            <a:ext cx="3124080" cy="172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200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4343400"/>
            <a:ext cx="3429000" cy="172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250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5029200" y="4419720"/>
            <a:ext cx="3581280" cy="172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250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5181480" y="914400"/>
            <a:ext cx="3505320" cy="172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250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33520" y="914400"/>
            <a:ext cx="3276360" cy="172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250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7T22:03:56Z</dcterms:created>
  <dc:creator>TPS</dc:creator>
  <dc:description/>
  <dc:language>en-US</dc:language>
  <cp:lastModifiedBy>TPS</cp:lastModifiedBy>
  <dcterms:modified xsi:type="dcterms:W3CDTF">2008-02-08T01:19:20Z</dcterms:modified>
  <cp:revision>16</cp:revision>
  <dc:subject/>
  <dc:title>Slide 1</dc:title>
</cp:coreProperties>
</file>