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381-206B-4012-B6C8-063C7A82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752-009A-408B-B2BA-5F6494A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1B8-E0BC-4142-A843-D54A9B1C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E9C-F836-4C17-8043-4BF5943E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75D-B212-4112-B251-9E577FB9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1D3-28DA-47C6-97EE-D6CB492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8A1-405C-4588-AF00-2458286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248-03D8-453C-95F2-51AA725A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4D7-A304-4E9E-B835-C1D91FE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A18-8014-49E0-B421-D68FBBF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BC7-EDE1-4557-AAF5-7232680A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EC4-C4B7-4B5F-8C33-2DE8BB3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9C65-EDFF-464E-8072-DC5BB751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2590920" cy="21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0" y="22860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ext Clu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cket flew into the sky carrying 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strona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mo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0"/>
            <a:ext cx="4648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800600" y="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ord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4419720" cy="3429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262400"/>
            <a:ext cx="4419720" cy="25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350532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t Featur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464832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3343320" cy="2400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3385800" y="484344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38680" y="3505320"/>
            <a:ext cx="32004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0532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0"/>
            <a:ext cx="4419720" cy="33526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185760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15238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Cause/Effect Description  Problem/Solution Comparison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xt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304920"/>
            <a:ext cx="4200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are and Contra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36576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e and Effec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762440" y="1447920"/>
            <a:ext cx="17146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1447920"/>
            <a:ext cx="1752840" cy="169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410080" y="4038480"/>
            <a:ext cx="251460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t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380880"/>
            <a:ext cx="8991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dicator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3581280"/>
            <a:ext cx="9144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24382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5320"/>
            <a:ext cx="457200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0"/>
            <a:ext cx="4572000" cy="3352680"/>
          </a:xfrm>
          <a:prstGeom prst="rect">
            <a:avLst/>
          </a:prstGeom>
          <a:solidFill>
            <a:srgbClr val="e7fc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97164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2096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1980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0"/>
            <a:ext cx="40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in Idea &amp; 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27672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724280" y="152280"/>
            <a:ext cx="4267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thor's Purp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257800" y="3581280"/>
            <a:ext cx="327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ract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80880" y="24382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676520" y="2438280"/>
            <a:ext cx="823680" cy="62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124080" y="2438280"/>
            <a:ext cx="752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457200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5320"/>
            <a:ext cx="457200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0"/>
            <a:ext cx="449568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505320"/>
            <a:ext cx="449568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752480"/>
            <a:ext cx="3352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t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00600" y="1066680"/>
            <a:ext cx="27432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1066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9494600">
            <a:off x="4960800" y="22064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700000">
            <a:off x="7428600" y="17902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685800"/>
            <a:ext cx="1218960" cy="7621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20128200">
            <a:off x="4724280" y="914040"/>
            <a:ext cx="2130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4572000" cy="342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4343400"/>
            <a:ext cx="3581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x 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962520"/>
            <a:ext cx="411480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10080" y="4495680"/>
            <a:ext cx="3219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3x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83808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4419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76920" y="434340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990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83808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257800" y="41911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41148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257800" y="838080"/>
            <a:ext cx="3276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4120" y="426708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4343400"/>
            <a:ext cx="33530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4120" y="1066680"/>
            <a:ext cx="3124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4343400"/>
            <a:ext cx="3429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0" y="441972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81480" y="9144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914400"/>
            <a:ext cx="32763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22:03:56Z</dcterms:created>
  <dc:creator>TPS</dc:creator>
  <dc:description/>
  <dc:language>en-US</dc:language>
  <cp:lastModifiedBy>TPS</cp:lastModifiedBy>
  <dcterms:modified xsi:type="dcterms:W3CDTF">2008-02-08T01:19:20Z</dcterms:modified>
  <cp:revision>16</cp:revision>
  <dc:subject/>
  <dc:title>Slide 1</dc:title>
</cp:coreProperties>
</file>